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55F-1F5A-48C1-84DC-4A2ABBC4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ADA-9325-4F1E-AA56-D28E403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B6C-7165-4EB3-BABB-ABEEE106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5A6-5B39-4FFA-8AC2-5CA91762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712-4BA9-47B2-A63E-AFDA6B5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8E2-7DE4-4303-A6FE-4152FEC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ECD-2DDD-47EF-BF5D-5BA1BE8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F5A-7FAD-4784-A422-8042AA3F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C66-2EBE-4B9A-8513-40002B0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BB0-73B4-4C64-9E5C-215AA1B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C5F-3AED-4ACB-944D-8CA24E2E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1F9-37A9-480C-A1E3-478675F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736-A785-4E53-B005-69862649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 5, Less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Bible describe Absal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mily did he have at this p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help did Absalom seek in getting David to see h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rastic action did he take to accomplish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Absalom set out to do during the next four y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0666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handsome; no blemishes; cut his hair once a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1337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ons; one daughter (Tamar, named after his si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4197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first, Joab ignored him but Absalom had his servants set Joab’ fields on fire to get his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0958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 the hearts of the people from David over to Abs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romise did he make to all who came to him with compla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xcuse did Absalom use to secure David’s permission to go to Hebr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what his actual purpose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alom succeeded in getting ___________ to join his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n had been one of David’s 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962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vince the people to make him 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4572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ithop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6680" y="55627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ed counse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aid that he had made a vow while in Geshur that he would worship God in Heb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3716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were king, I would solve all of your problem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0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5335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do when news came to him about Absalom’s conspi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was surprised when a group of _________ men from ___________, with their leader, __________, wanted to go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, ___________, and the __________ came to join David, bringing the _______ of the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as David’s instruction to th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left the city and headed to the East – beyond the Jordan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791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the city; if the Lord favored him, he would see it again; if He was not pleased, let Him do to me what He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09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d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at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572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n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533520"/>
            <a:ext cx="815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the priests be of more help to David by returning to the 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David ask God to do concerning the counsel of Ahithoph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was another of David’s counse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names of several people who were involved in David’s “spy syst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3716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could spy on Absalom and keep David informed through the priests’ sons, Ahimaaz and Jona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the counsel of Ahithophel to foolis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4100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dok, Abiathar and their sons along with Hu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0"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04:06:53Z</dcterms:created>
  <dc:creator>Frank D Vines</dc:creator>
  <dc:description/>
  <dc:language>en-US</dc:language>
  <cp:lastModifiedBy>Frank D Vines</cp:lastModifiedBy>
  <dcterms:modified xsi:type="dcterms:W3CDTF">2005-07-10T03:54:08Z</dcterms:modified>
  <cp:revision>19</cp:revision>
  <dc:subject/>
  <dc:title>Slide 1</dc:title>
</cp:coreProperties>
</file>